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1BAF-64E4-4DE6-A4FA-AC171B5EA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CFD6-B71C-4C1C-A55F-F2AB9E24A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ED86-1EC5-4C47-87D4-599754975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21DD-167F-46CB-AF91-66119BB0B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69D1-DCCA-4D40-A7C3-B702B9AEC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AD09-3E97-4A5D-84A3-9162A9DCA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6BAC-FA98-4574-B6E7-BA950375C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1243-757D-47AC-8A33-D23B6CBFF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28F9-9DE9-432A-A3E7-F5DB77B0F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6040-CF3D-4C68-B429-D2052607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857A-C6F6-4D2E-A3AF-07E7F8F0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C5B2-2F52-4919-9DFC-8F8E1F3E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CB8BE-24CC-433B-8B10-12A0B3020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 and Music from the Enlighte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tio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caravaggio Supper at Emmaus"/>
          <p:cNvPicPr/>
          <p:nvPr/>
        </p:nvPicPr>
        <p:blipFill>
          <a:blip r:embed="rId1"/>
          <a:stretch/>
        </p:blipFill>
        <p:spPr>
          <a:xfrm>
            <a:off x="1676520" y="119160"/>
            <a:ext cx="6629400" cy="63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The fountain of Love"/>
          <p:cNvPicPr/>
          <p:nvPr/>
        </p:nvPicPr>
        <p:blipFill>
          <a:blip r:embed="rId1"/>
          <a:stretch/>
        </p:blipFill>
        <p:spPr>
          <a:xfrm>
            <a:off x="1523880" y="708120"/>
            <a:ext cx="6324840" cy="56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19:54:22Z</dcterms:created>
  <dc:creator>shoyer</dc:creator>
  <dc:description/>
  <dc:language>en-US</dc:language>
  <cp:lastModifiedBy>shoyer</cp:lastModifiedBy>
  <dcterms:modified xsi:type="dcterms:W3CDTF">2007-12-12T20:03:34Z</dcterms:modified>
  <cp:revision>1</cp:revision>
  <dc:subject/>
  <dc:title>Art and Music from the Enlightenment</dc:title>
</cp:coreProperties>
</file>